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CB22-39FE-4F78-9B79-4B5BBD1D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AEA-4125-4926-B5FC-AFC862BF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68A-4182-45D7-9CCD-02604550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0454-E001-44C7-8247-3B34068E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F237-9F13-4950-BFB3-2D7A535D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A6FC-B2E0-445A-B290-41F1A818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8FD3-C8BC-40CA-915E-D021D0D6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C8A0-2077-4C70-AD71-AB99FA24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50DE-360C-4B46-9DDE-390D3871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131C-1459-40CB-8CD1-0E9C250E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103F-943A-4091-8AAE-02B5F7DA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8A3E-6F39-4F09-B835-CB4F1931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C483-8F28-47DE-861A-19D32329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5C67-5565-4BAF-9B6A-EED02184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948A-7A9F-4FA6-A7C7-2681BB0D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DF3D-91FE-4D03-BC1B-4231DCC4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5969-08D3-4969-9B3D-F0269032C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116-CFF5-4E65-AF22-94FF58B2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7DE-CDF7-412E-899C-47119AAC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0555-BF7D-44F0-BD5E-933E73D2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950-8492-4502-9631-50D07FFE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D5D8-5C22-40A1-8CA8-4B0F7357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A45-1A0D-4A75-A65E-27490B72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A36-FB07-4861-82B8-0B0D807E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8166A-DB3A-42E5-89F1-06B173B71DA0}" type="datetime">
              <a:rPr b="0" lang="en-US" sz="1000" spc="-1" strike="noStrike">
                <a:solidFill>
                  <a:srgbClr val="2f1311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EEDB5-60D1-4752-AF75-3D3DF8F8E6F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640D6E-DDCD-4152-95AA-73BBE5431E12}" type="datetime">
              <a:rPr b="0" lang="en-US" sz="1000" spc="-1" strike="noStrike">
                <a:solidFill>
                  <a:srgbClr val="2f1311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3BEBE-F759-44DB-8202-6378348F7BA5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48599&amp;vid=1&amp;pid=751755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57090&amp;vid=1&amp;pid=749465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57857&amp;vid=1&amp;pid=763712&amp;scid=763712002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13658&amp;vid=1&amp;pid=783104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hopp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085760" y="3871440"/>
            <a:ext cx="574200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isa Flo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tem #1gap jea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63520" y="1598760"/>
          <a:ext cx="7386480" cy="1609200"/>
        </p:xfrm>
        <a:graphic>
          <a:graphicData uri="http://schemas.openxmlformats.org/drawingml/2006/table">
            <a:tbl>
              <a:tblPr/>
              <a:tblGrid>
                <a:gridCol w="1846440"/>
                <a:gridCol w="1846800"/>
                <a:gridCol w="1846800"/>
                <a:gridCol w="1846440"/>
              </a:tblGrid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9.50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4.90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4.6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TextBox 4"/>
          <p:cNvSpPr/>
          <p:nvPr/>
        </p:nvSpPr>
        <p:spPr>
          <a:xfrm>
            <a:off x="457200" y="3981600"/>
            <a:ext cx="2612880" cy="2562840"/>
          </a:xfrm>
          <a:prstGeom prst="rect">
            <a:avLst/>
          </a:prstGeom>
          <a:solidFill>
            <a:srgbClr val="c1605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) I subtracting the original price (79.50)  which the new price (44.90) and this is equal (34.6).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) I divide the difference (34.6) which the original price and the answer is (44%).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pic>
        <p:nvPicPr>
          <p:cNvPr id="1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81636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tem #2 sweate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63520" y="1598760"/>
          <a:ext cx="7386480" cy="1609200"/>
        </p:xfrm>
        <a:graphic>
          <a:graphicData uri="http://schemas.openxmlformats.org/drawingml/2006/table">
            <a:tbl>
              <a:tblPr/>
              <a:tblGrid>
                <a:gridCol w="1846440"/>
                <a:gridCol w="1846800"/>
                <a:gridCol w="1846800"/>
                <a:gridCol w="1846440"/>
              </a:tblGrid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9.50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9.99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5.51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Box 4"/>
          <p:cNvSpPr/>
          <p:nvPr/>
        </p:nvSpPr>
        <p:spPr>
          <a:xfrm>
            <a:off x="457200" y="3305160"/>
            <a:ext cx="2612880" cy="2837160"/>
          </a:xfrm>
          <a:prstGeom prst="rect">
            <a:avLst/>
          </a:prstGeom>
          <a:solidFill>
            <a:srgbClr val="c1605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ubtracting the original price (79.50)  which the new price (49.90) and this is equal (25.51).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I divide the difference (25.51) which the original price and the answer is (32%)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pic>
        <p:nvPicPr>
          <p:cNvPr id="2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05200" y="343044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263520" y="1598760"/>
          <a:ext cx="7386480" cy="1609200"/>
        </p:xfrm>
        <a:graphic>
          <a:graphicData uri="http://schemas.openxmlformats.org/drawingml/2006/table">
            <a:tbl>
              <a:tblPr/>
              <a:tblGrid>
                <a:gridCol w="1846440"/>
                <a:gridCol w="1846800"/>
                <a:gridCol w="1846800"/>
                <a:gridCol w="1846440"/>
              </a:tblGrid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9.50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9.99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9.51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6%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TextBox 4"/>
          <p:cNvSpPr/>
          <p:nvPr/>
        </p:nvSpPr>
        <p:spPr>
          <a:xfrm>
            <a:off x="608040" y="3367080"/>
            <a:ext cx="2612880" cy="2837160"/>
          </a:xfrm>
          <a:prstGeom prst="rect">
            <a:avLst/>
          </a:prstGeom>
          <a:solidFill>
            <a:srgbClr val="c1605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ubtracting the original price (59.50)  which the new price (19.99) and this is equal (39.51).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I divide the difference (39.51) which the original price and the answer is (66%)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3868560" y="4145040"/>
            <a:ext cx="2294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pic>
        <p:nvPicPr>
          <p:cNvPr id="2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41680" y="3367080"/>
            <a:ext cx="1924200" cy="2571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36720" y="376200"/>
            <a:ext cx="40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Item #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tem #4 dress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63520" y="1598760"/>
          <a:ext cx="7386480" cy="1609200"/>
        </p:xfrm>
        <a:graphic>
          <a:graphicData uri="http://schemas.openxmlformats.org/drawingml/2006/table">
            <a:tbl>
              <a:tblPr/>
              <a:tblGrid>
                <a:gridCol w="1846440"/>
                <a:gridCol w="1846800"/>
                <a:gridCol w="1846800"/>
                <a:gridCol w="1846440"/>
              </a:tblGrid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9.50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4.99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4.51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4%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TextBox 4"/>
          <p:cNvSpPr/>
          <p:nvPr/>
        </p:nvSpPr>
        <p:spPr>
          <a:xfrm>
            <a:off x="457200" y="3378240"/>
            <a:ext cx="2612880" cy="2837160"/>
          </a:xfrm>
          <a:prstGeom prst="rect">
            <a:avLst/>
          </a:prstGeom>
          <a:solidFill>
            <a:srgbClr val="c1605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ubtracting the original price (69.50)  which the new price (24.99) and this is equal (44.51).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I divide the difference (44.51) which the original price and the answer is (64%)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pic>
        <p:nvPicPr>
          <p:cNvPr id="2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43044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ow much did you spend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bought  jeans for $44.9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bought a sweater for $44.9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bought a dresses for $19.9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bought a dresses for $24.99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riginal Pric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original price of  jeans was79.50 and I bought for 44.90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original price of sweater was 79.50  and I bought for 49.9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original price of dresses was 59.50 and I bought for 19.9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original price of dresses 69.50 and I bought for 24.9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y savings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saved 34.60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percent of change is 44%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6:22:04Z</dcterms:modified>
  <cp:revision>4</cp:revision>
  <dc:subject/>
  <dc:title>Write a title here.</dc:title>
</cp:coreProperties>
</file>