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E95-4A7F-432B-AC9A-6E5B298A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E9CE-42B0-42B8-A1AC-029766CE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D6DA-9131-4C7A-A575-EAD095756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691B-34D0-47A0-BF6C-450AAFB9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2200-CE1A-4870-B447-EAEE3E98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CD64-9D8D-4A84-808B-896A514A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B8BD-81A5-49BE-BBD2-C1403AC2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093F-0768-47F8-94B7-BEFCF091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E9BB-62B6-4E2E-B3E8-7635CD35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276F-6975-41E0-811F-C7E849EB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14D1-68EF-4C21-AB4B-3EC8ABB4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59A9-B71E-4278-9DD6-1FFBF7E0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93D9-2EF0-498C-B1B3-2F246847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8BC7-73F4-4958-9309-3D56303C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5667-6E64-42E1-A5F0-AD39C09D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F875-F12B-4223-B29A-AA8F87BF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CB77-9F69-4676-8159-AD3DD250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5CBB-9918-4515-B785-7AD9C8B6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0E87-AEEA-4CB0-AB57-77CA5546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ECE1-EF9F-4798-9375-6A5C7BF1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85BD-6DE8-497A-AD10-EA3142A5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EB5B-EF02-4CE4-B09C-D662D1DA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F39A-AC25-42DF-945B-7243A20F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F824-68EA-45DE-8946-78A9FDC8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3B7694-8493-4844-BBDF-6FE25CADD8C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FA580F-D923-4B02-BA7E-E3B8A777A9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654736-5280-47B0-A1D8-C8892EFB4D43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C801BC-07C7-44AE-9D33-1269F32BC5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Luigi shopping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727280" y="4020840"/>
            <a:ext cx="6229440" cy="16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uig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tem #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38080" y="1905120"/>
          <a:ext cx="8007480" cy="1410840"/>
        </p:xfrm>
        <a:graphic>
          <a:graphicData uri="http://schemas.openxmlformats.org/drawingml/2006/table">
            <a:tbl>
              <a:tblPr/>
              <a:tblGrid>
                <a:gridCol w="2001600"/>
                <a:gridCol w="2001960"/>
                <a:gridCol w="2001960"/>
                <a:gridCol w="2001960"/>
              </a:tblGrid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3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32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.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8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sustratet the original price is(39.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new price is (32.9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 diference  original is (1.85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percent of change the (21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90960" y="3571920"/>
            <a:ext cx="2476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tem #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1905120"/>
          <a:ext cx="8007480" cy="1410840"/>
        </p:xfrm>
        <a:graphic>
          <a:graphicData uri="http://schemas.openxmlformats.org/drawingml/2006/table">
            <a:tbl>
              <a:tblPr/>
              <a:tblGrid>
                <a:gridCol w="2001600"/>
                <a:gridCol w="2001960"/>
                <a:gridCol w="2001960"/>
                <a:gridCol w="2001960"/>
              </a:tblGrid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008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a sentence here about how you found the percent of chang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tem #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1905120"/>
          <a:ext cx="8007480" cy="1410840"/>
        </p:xfrm>
        <a:graphic>
          <a:graphicData uri="http://schemas.openxmlformats.org/drawingml/2006/table">
            <a:tbl>
              <a:tblPr/>
              <a:tblGrid>
                <a:gridCol w="2001600"/>
                <a:gridCol w="2001960"/>
                <a:gridCol w="2001960"/>
                <a:gridCol w="2001960"/>
              </a:tblGrid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008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a sentence here about how you found the percent of chang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tem #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1905120"/>
          <a:ext cx="8007480" cy="1410840"/>
        </p:xfrm>
        <a:graphic>
          <a:graphicData uri="http://schemas.openxmlformats.org/drawingml/2006/table">
            <a:tbl>
              <a:tblPr/>
              <a:tblGrid>
                <a:gridCol w="2001600"/>
                <a:gridCol w="2001960"/>
                <a:gridCol w="2001960"/>
                <a:gridCol w="2001960"/>
              </a:tblGrid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008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a sentence here about how you found the percent of chang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much did you spend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complete sentences to describe your purchases (I bought  ____________  for $_______.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sentence to state your tot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riginal Pric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complete sentences to describe the original prices (The original price of____________  was $_______.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sentence to state the total of original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y saving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sentence telling how much you sa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sentence stating the percent of 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3T14:26:54Z</dcterms:modified>
  <cp:revision>5</cp:revision>
  <dc:subject/>
  <dc:title>Write a title here.</dc:title>
</cp:coreProperties>
</file>