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986-B663-448D-A90C-B1B97B7C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38A-EFAF-47CA-B5BB-398C72E5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10F-4E89-45F7-8827-C4987AC1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AEF-752A-4632-A316-3BECA732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FCE6-3DAC-4E26-9F49-64570439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1E19-EF11-43C1-9A2E-4139EE29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D8CF-974E-4AC8-97A2-FFC11FAA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8850-9EEF-441C-B4BC-6FBD894C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F52C-BE3A-492A-A398-E72B0CD9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945C-D128-4E18-8CD9-1E776F6D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7D18-FC1B-445F-92B8-BF378AEF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862-231A-425C-8143-55BB199A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6BC4-B965-4562-BAB2-4B7A312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B5D6-FAED-4458-9246-6FED61A9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B35E-C561-45B0-BE86-B2A6E2FA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54A0-9EC0-4597-87EA-15C670A0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5C16-4A6E-4EF0-990E-8E198383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D0B-92F0-4226-8A45-30D4B75B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764-BA41-4C49-B293-172EE898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30D-F131-420B-AB7D-456F6DBF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5F5-0F09-4ECB-9546-34B897E7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083-FA4F-4B52-8632-C671A2D9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0D3-6611-474F-A2E4-C60542B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079-6809-418C-9EDE-1A43EFA4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E9886-0CC1-4AE7-9508-9BC8A412CD5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52C50-DAA8-4C75-B12B-85E0E940F4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46E94-7A24-48AC-83CE-5E218958825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0C794-E34C-4C0F-A63B-6ECC328798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Luigi shopping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ui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em #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1905120"/>
          <a:ext cx="8007480" cy="1410840"/>
        </p:xfrm>
        <a:graphic>
          <a:graphicData uri="http://schemas.openxmlformats.org/drawingml/2006/table">
            <a:tbl>
              <a:tblPr/>
              <a:tblGrid>
                <a:gridCol w="2001600"/>
                <a:gridCol w="2001960"/>
                <a:gridCol w="2001960"/>
                <a:gridCol w="200196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2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8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sustratet the original price is(3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new price is (32.9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diference  original is (1.85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percent of change the (21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90960" y="357192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em #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1905120"/>
          <a:ext cx="8007480" cy="1410840"/>
        </p:xfrm>
        <a:graphic>
          <a:graphicData uri="http://schemas.openxmlformats.org/drawingml/2006/table">
            <a:tbl>
              <a:tblPr/>
              <a:tblGrid>
                <a:gridCol w="2001600"/>
                <a:gridCol w="2001960"/>
                <a:gridCol w="2001960"/>
                <a:gridCol w="200196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008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em #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1410840"/>
        </p:xfrm>
        <a:graphic>
          <a:graphicData uri="http://schemas.openxmlformats.org/drawingml/2006/table">
            <a:tbl>
              <a:tblPr/>
              <a:tblGrid>
                <a:gridCol w="2001600"/>
                <a:gridCol w="2001960"/>
                <a:gridCol w="2001960"/>
                <a:gridCol w="200196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008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em #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905120"/>
          <a:ext cx="8007480" cy="1410840"/>
        </p:xfrm>
        <a:graphic>
          <a:graphicData uri="http://schemas.openxmlformats.org/drawingml/2006/table">
            <a:tbl>
              <a:tblPr/>
              <a:tblGrid>
                <a:gridCol w="2001600"/>
                <a:gridCol w="2001960"/>
                <a:gridCol w="2001960"/>
                <a:gridCol w="200196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008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much did you spen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o state your to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iginal Pri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y saving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3T14:26:54Z</dcterms:modified>
  <cp:revision>5</cp:revision>
  <dc:subject/>
  <dc:title>Write a title here.</dc:title>
</cp:coreProperties>
</file>