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70A-3656-4048-B73B-763D9EF0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6F7B-8B63-4A79-8220-AB9B6A0C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442A-7D2F-46A4-AFFA-704CEB27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2EFD-D956-468D-BB00-2CC5641E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7371-1881-4EE0-A567-0F675271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9C0F-4798-43FA-8CD8-A9247302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F1AE-1FE1-435F-A93A-8A614A83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7E10-30CA-4E93-B4BF-98982BF3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A52F-374E-4942-96A8-7251FE81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201D-8C92-4F51-B83C-2E6E3E09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8BB1-648A-43CA-B700-D1518D7E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8080-7351-4876-BFBC-66067AFB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6F64-7D83-4E9E-A03E-8CEDF5F9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5F83-6894-4CFD-BEBA-AFE05B9A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1AE0-0675-40A5-A5BA-A8AD1F52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2438-C8BD-4B93-9B0C-09145729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9853-172D-4723-85F3-4B4C06B9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E09-B918-4CB9-869B-866A151A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7041-02BA-4FD6-9392-3124AE68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54B4-76D8-4DE4-B6D7-C5A86665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DD39-E592-4BC2-8B47-2F7FB55D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084C-A8BC-4A7A-B9B0-72E370F4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938-5F25-4BAF-8CE3-B67B606C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BE3-8F0E-4145-83BC-AAEC0B2A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4200E-A9A5-4AC5-9D71-AC86278D4B91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2691D-4761-4ABB-AA20-DA14EAEA5DB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76664A-AF8F-40AC-883A-F9C5BA3C576D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17FB5-C935-4507-BA88-7A9A61B5AC9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83&amp;vid=1&amp;pid=763767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77&amp;vid=1&amp;pid=770837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hopping marlin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Verdana"/>
              </a:rPr>
              <a:t>Marline duviell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tem #1 pink shi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4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1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TextBox 4"/>
          <p:cNvSpPr/>
          <p:nvPr/>
        </p:nvSpPr>
        <p:spPr>
          <a:xfrm>
            <a:off x="457200" y="3981600"/>
            <a:ext cx="2612880" cy="2654280"/>
          </a:xfrm>
          <a:prstGeom prst="rect">
            <a:avLst/>
          </a:prstGeom>
          <a:solidFill>
            <a:srgbClr val="0066cc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First I subtracted the 12.99 from 44.50. Then I divided 31.51 by 44.50 then I got 0.7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002360" y="3981600"/>
            <a:ext cx="1924200" cy="2571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tem #3 – Gray shi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66cc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Write a sentence describing how you found the percent of chang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87972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67480" y="389556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5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tem #2 - red shi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66cc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first I subtracted 9.99 from16.50 then I divide 6.51 by 16.50  then I go 0.39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018040" y="3287880"/>
            <a:ext cx="2476440" cy="3286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tem #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600200"/>
          <a:ext cx="8229240" cy="153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8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9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Box 4"/>
          <p:cNvSpPr/>
          <p:nvPr/>
        </p:nvSpPr>
        <p:spPr>
          <a:xfrm>
            <a:off x="457200" y="3981600"/>
            <a:ext cx="2612880" cy="2288520"/>
          </a:xfrm>
          <a:prstGeom prst="rect">
            <a:avLst/>
          </a:prstGeom>
          <a:solidFill>
            <a:srgbClr val="0066cc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Write a sentence describing how you found the percent of chang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67480" y="335268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much did you spen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bought a pink shirt for $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2.99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bought a shirt for $9.9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bought a for jacket $69.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bought a shirt for $19.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total paid was  $110.9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riginal Pri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riginal prix was to the $40 .50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riginal prix  was to the $98.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riginal prix was  to the $ 46.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riginal prix was to the $49.9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riginal prix was to the  $12 98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ite a sentence to state the total of original pric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 savings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saved a total of $31.51 on my pink shir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saved my cry shirt  a total of $4.5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saved my shirt a total of $ 9.99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saved my jacket a total of $ 12 .9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total of $58.9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divided 58.99 b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9T20:57:38Z</dcterms:modified>
  <cp:revision>11</cp:revision>
  <dc:subject/>
  <dc:title>Write a title here.</dc:title>
</cp:coreProperties>
</file>