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FCE-EE7C-4712-82BA-923046A4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54AE-EA6A-4EF1-AD1E-B4228ACA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556-9022-470E-B052-10439010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DA02-4348-4832-848B-BBB8877B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6884-637A-426B-8BC5-A87B41FD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B2DE-778B-4094-B3BE-DD5AB2B0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69F9-5B47-4789-84F5-E53BFE74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4F1B-6756-4667-9BAE-FE7D525A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0AF7-3EA7-4B89-848F-D2C50275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2493-30FC-4F44-8BD0-6C1C7972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B8E3-764A-425C-8933-24074EF4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0E49-B19D-4FF8-9952-6349174E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2F98-CFC9-478E-B45C-CCD32CE6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A4A7-3F39-4522-AC9D-075E27EC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EAAE-3F81-4A7B-A93E-E0BEDB7D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E4DF-B09A-4261-AE50-8AB3A779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4087-D5B8-4BB1-8B82-60BFFA5D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E952-B4EA-4013-9BAF-73E46BDA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6D7A-A17D-4898-8C5F-154612ED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AB5F-63B8-4A84-A60C-902B01EB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D45-8FB8-438A-B588-4159C354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C2A-348C-42EA-9C81-78E76946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54A4-EFE7-42AB-8143-0055CE34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A5F-6F70-4F68-B6F1-72FF3299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84479-380F-4590-A778-1F41CB4C758A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77105-7D37-4FB4-9D2D-87BFF04BE37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142D5-11ED-4509-89FC-712F4711D579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76127-4578-4714-B9E0-5CB4F39B16F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83&amp;vid=1&amp;pid=763767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77&amp;vid=1&amp;pid=770837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hopping marlin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Verdana"/>
              </a:rPr>
              <a:t>Marline duviell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tem #1 pink shi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1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TextBox 4"/>
          <p:cNvSpPr/>
          <p:nvPr/>
        </p:nvSpPr>
        <p:spPr>
          <a:xfrm>
            <a:off x="457200" y="3981600"/>
            <a:ext cx="2612880" cy="2654280"/>
          </a:xfrm>
          <a:prstGeom prst="rect">
            <a:avLst/>
          </a:prstGeom>
          <a:solidFill>
            <a:srgbClr val="0066cc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irst I subtracted the 12.99 from 44.50. Then I divided 31.51 by 44.50 then I got 0.7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002360" y="3981600"/>
            <a:ext cx="1924200" cy="2571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tem #3 – Gray shi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66cc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Write a sentence describing how you found the percent of chang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87972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67480" y="389556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5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tem #2 - red shi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66cc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irst I subtracted 9.99 from16.50 then I divide 6.51 by 16.50  then I go 0.39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018040" y="328788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tem #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8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9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66cc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Write a sentence describing how you found the percent of chang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67480" y="335268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much did you spen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bought a pink shirt for $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2.99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bought a shirt for $9.9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bought a for jacket $69.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bought a shirt for $19.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total paid was  $110.9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riginal Pri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riginal prix was to the $40 .50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riginal prix  was to the $98.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riginal prix was  to the $ 46.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riginal prix was to the $49.9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riginal prix was to the  $12 98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ite a sentence to state the total of original pric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savings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saved a total of $31.51 on my pink shir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saved my cry shirt  a total of $4.5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saved my shirt a total of $ 9.99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saved my jacket a total of $ 12 .9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total of $58.9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divided 58.99 b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9T20:57:38Z</dcterms:modified>
  <cp:revision>11</cp:revision>
  <dc:subject/>
  <dc:title>Write a title here.</dc:title>
</cp:coreProperties>
</file>