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89D-1CDC-4CDD-93A0-D9433467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9AF-9065-460D-8BFF-44B9A20A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C0F-F66C-4B6D-BD27-90973FB2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3B0-2A5D-4276-B4D4-F431BB91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3E20-8154-48E3-A48F-207CF685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7062-15B1-4A41-8538-73389DF6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2CD0-3954-4A9B-AF1E-5F529291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1D98-3CDB-45E9-A927-605C717B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9D99-46E9-4EA0-82CA-0F1E19A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9E6-2870-41F4-BC94-64A12CA2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4E12-6C1F-4507-9E0F-E71E449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425-A9A2-4488-A8FC-F579287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238-3988-4B15-A9E2-6C32095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F4E1-FC36-452B-9BAA-935C5B3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64CD-3946-4448-9E22-2C22A04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A826-8B9A-4972-AEBD-B1A5B431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7683-3A58-48C5-ABD6-B63538AF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C26-4B94-4024-952E-E0106EB8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C04-61C7-49DC-8E70-10FC35F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8A9-D87A-49FE-AD4B-5E453584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FAF-8ED5-4455-8E61-DF1DEEDA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86E-01B9-4F7C-B3A6-90DE3FA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0AD-4E46-40F0-ABAC-D1A35ACC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FFE-6724-447D-AD8C-B5B45331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FB833-D7E7-45EE-B319-83FB06344897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5A752-BAFF-4850-9F96-AC49D4C240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EEA99-7134-4878-86A1-C180D92932A2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FBECA-99D1-4687-B838-90E76E4D3E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3&amp;vid=1&amp;pid=763767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1&amp;pid=77083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hopping marli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Marline duviel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1 pink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457200" y="3981600"/>
            <a:ext cx="2612880" cy="265428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ed the 12.99 from 44.50. Then I divided 31.51 by 44.50 then I got 0.7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002360" y="398160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3 – Gray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87972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67480" y="389556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2 - red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ed 9.99 from16.50 then I divide 6.51 by 16.50  then I go 0.39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18040" y="32878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67480" y="335268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pink shirt for $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.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hirt for $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for jacket $69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hirt for $19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paid was  $110.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$40 .5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 was to the $98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 to the $ 46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$4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 $12 98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a total of $31.51 on my pink shi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cry shirt  a total of $4.5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shirt a total of $ 9.99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jacket a total of $ 12 .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of $58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divided 58.99 b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7:38Z</dcterms:modified>
  <cp:revision>11</cp:revision>
  <dc:subject/>
  <dc:title>Write a title here.</dc:title>
</cp:coreProperties>
</file>