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895-22D9-474D-93E6-EFFCBE25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961-1694-4E8C-80D0-DE61D69F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55F-D389-4E1E-AC69-00E29D2F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007-3E12-4D5D-9751-5BF5FAF9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D7A-BCB2-49E8-A2B8-9D774C57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8A0-F918-4E11-B858-5FF86067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AE5-860D-4C61-97CF-2BDA6D0B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05B-E869-4DA9-B108-F8C3610E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426-C1BB-4E69-9010-0450F1A9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FFC-30F0-49D9-B72E-36BDC33B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5FC-996E-452D-82B0-4C3D94C8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19B-5780-4D2C-BD11-E817C0B9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F162E-7315-413B-9B81-86B1D06FBA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50674-07A9-4603-AFF2-17CA9680F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pp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Maximo Rodriguez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.50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3.9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ed de original pr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9.5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the   differe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3.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75120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935520" y="374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4920" y="32608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2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4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4"/>
          <p:cNvSpPr/>
          <p:nvPr/>
        </p:nvSpPr>
        <p:spPr>
          <a:xfrm>
            <a:off x="457200" y="385272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ed  de original pr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29.5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dif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14.7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62480" y="3311640"/>
            <a:ext cx="273204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1631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ived  de original pr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29.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differe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.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25304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7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ived  de original pr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9.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dif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9.7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97400" y="3224160"/>
            <a:ext cx="28828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1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shirt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33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T-shirt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14.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polo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9.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 sweeter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19.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The total of everything i buy 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78.4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shirt for </a:t>
            </a:r>
            <a:r>
              <a:rPr b="0" lang="en-US" sz="2400" spc="-1" strike="noStrike">
                <a:solidFill>
                  <a:srgbClr val="23bbeb"/>
                </a:solidFill>
                <a:latin typeface="Calibri"/>
              </a:rPr>
              <a:t>49.50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T-shirt for </a:t>
            </a:r>
            <a:r>
              <a:rPr b="0" lang="en-US" sz="2400" spc="-1" strike="noStrike">
                <a:solidFill>
                  <a:srgbClr val="23bbeb"/>
                </a:solidFill>
                <a:latin typeface="Calibri"/>
              </a:rPr>
              <a:t>29.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polo for </a:t>
            </a:r>
            <a:r>
              <a:rPr b="0" lang="en-US" sz="2400" spc="-1" strike="noStrike">
                <a:solidFill>
                  <a:srgbClr val="23bbeb"/>
                </a:solidFill>
                <a:latin typeface="Calibri"/>
              </a:rPr>
              <a:t>29.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 sweeter for </a:t>
            </a:r>
            <a:r>
              <a:rPr b="0" lang="en-US" sz="2000" spc="-1" strike="noStrike">
                <a:solidFill>
                  <a:srgbClr val="23bbeb"/>
                </a:solidFill>
                <a:latin typeface="Calibri"/>
              </a:rPr>
              <a:t>39.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Calibri"/>
              </a:rPr>
              <a:t>The total of everything i buy is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ve 69.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ve 4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25:00Z</dcterms:modified>
  <cp:revision>8</cp:revision>
  <dc:subject/>
  <dc:title>Write a title here.</dc:title>
</cp:coreProperties>
</file>