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63BB-67B4-4BB0-AFC8-FFDEC997E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5FAB-4000-4F5C-8D88-075A3E257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29C1-3205-4704-9E32-B654750E9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5A6B-B353-4B46-912A-0970B85B8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6C81-5ADD-4C86-9372-8C04DD99D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8CB1-2FB3-4C19-B3A3-B95B8E68C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171E-217F-48C7-8B05-D3ACD9A4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A326-3C1D-4210-87A8-A5C643A3A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8776-CBD6-482C-B5C0-F2C22ED27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2556-C2BD-4FD0-9019-AF09E666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049F-9155-4279-A96C-11FA8BD4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B51E-59F7-4955-BCB9-3512529D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D1F40C-93F2-413D-8CEF-D392721DAF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95EBC3-90C2-4445-925B-7E7EC11992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opping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omic Sans MS"/>
              </a:rPr>
              <a:t>Maximo Rodriguez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 #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00200"/>
          <a:ext cx="8229600" cy="1508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9.50 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3.99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TextBox 4"/>
          <p:cNvSpPr/>
          <p:nvPr/>
        </p:nvSpPr>
        <p:spPr>
          <a:xfrm>
            <a:off x="457200" y="3981600"/>
            <a:ext cx="261288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 dived de original pri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49.5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for the   differenc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33.9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375120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3935520" y="37490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444920" y="3260880"/>
            <a:ext cx="24764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 #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600200"/>
          <a:ext cx="8229600" cy="1508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29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14.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TextBox 4"/>
          <p:cNvSpPr/>
          <p:nvPr/>
        </p:nvSpPr>
        <p:spPr>
          <a:xfrm>
            <a:off x="457200" y="3852720"/>
            <a:ext cx="261288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 dived  de original pri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 29.5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the differen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 14.75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262480" y="3311640"/>
            <a:ext cx="2732040" cy="31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 #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600200"/>
          <a:ext cx="8229600" cy="16318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9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9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TextBox 4"/>
          <p:cNvSpPr/>
          <p:nvPr/>
        </p:nvSpPr>
        <p:spPr>
          <a:xfrm>
            <a:off x="457200" y="3981600"/>
            <a:ext cx="261288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dived  de original pri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 29.5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the differenc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9.9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253044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 #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600200"/>
          <a:ext cx="8229600" cy="1508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9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9.7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TextBox 4"/>
          <p:cNvSpPr/>
          <p:nvPr/>
        </p:nvSpPr>
        <p:spPr>
          <a:xfrm>
            <a:off x="457200" y="3981600"/>
            <a:ext cx="261288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dived  de original pri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39.5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the differ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19.7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4397400" y="4349880"/>
            <a:ext cx="229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py and Paste a picture of the item you chose.  Delete this box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397400" y="3224160"/>
            <a:ext cx="288288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did you spen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1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 bought a shirt for </a:t>
            </a: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33.9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 bought a T-shirt for </a:t>
            </a: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14.7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 bought a polo for </a:t>
            </a: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9.7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 bought a  sweeter for </a:t>
            </a: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19.7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f81bd"/>
                </a:solidFill>
                <a:latin typeface="Calibri"/>
              </a:rPr>
              <a:t>The total of everything i buy 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78.48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riginal Pr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bbeb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 bought a shirt for </a:t>
            </a:r>
            <a:r>
              <a:rPr b="0" lang="en-US" sz="2400" spc="-1" strike="noStrike">
                <a:solidFill>
                  <a:srgbClr val="23bbeb"/>
                </a:solidFill>
                <a:latin typeface="Calibri"/>
              </a:rPr>
              <a:t>49.50</a:t>
            </a:r>
            <a:r>
              <a:rPr b="0" lang="en-US" sz="2400" spc="-1" strike="noStrike">
                <a:solidFill>
                  <a:srgbClr val="ff33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bbeb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 bought a T-shirt for </a:t>
            </a:r>
            <a:r>
              <a:rPr b="0" lang="en-US" sz="2400" spc="-1" strike="noStrike">
                <a:solidFill>
                  <a:srgbClr val="23bbeb"/>
                </a:solidFill>
                <a:latin typeface="Calibri"/>
              </a:rPr>
              <a:t>29.5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bbeb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 bought a polo for </a:t>
            </a:r>
            <a:r>
              <a:rPr b="0" lang="en-US" sz="2400" spc="-1" strike="noStrike">
                <a:solidFill>
                  <a:srgbClr val="23bbeb"/>
                </a:solidFill>
                <a:latin typeface="Calibri"/>
              </a:rPr>
              <a:t>29.5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bbeb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 bought a  sweeter for </a:t>
            </a:r>
            <a:r>
              <a:rPr b="0" lang="en-US" sz="2000" spc="-1" strike="noStrike">
                <a:solidFill>
                  <a:srgbClr val="23bbeb"/>
                </a:solidFill>
                <a:latin typeface="Calibri"/>
              </a:rPr>
              <a:t>39.5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Calibri"/>
              </a:rPr>
              <a:t>The total of everything i buy is</a:t>
            </a:r>
            <a:r>
              <a:rPr b="0" lang="en-US" sz="32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00080"/>
                </a:solidFill>
                <a:latin typeface="Calibri"/>
              </a:rPr>
              <a:t>14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3333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saving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save 69.5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save 46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6:16:13Z</dcterms:created>
  <dc:creator>Teacher</dc:creator>
  <dc:description/>
  <dc:language>en-US</dc:language>
  <cp:lastModifiedBy>tech</cp:lastModifiedBy>
  <dcterms:modified xsi:type="dcterms:W3CDTF">2010-11-04T16:25:00Z</dcterms:modified>
  <cp:revision>8</cp:revision>
  <dc:subject/>
  <dc:title>Write a title here.</dc:title>
</cp:coreProperties>
</file>