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D99-9F12-4390-8510-9AB99827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1D6-8AA4-48EF-997C-6B982C33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B24-84AC-4209-965C-F20B6E5C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DA8-1333-433C-A2BE-E65D622F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1E3-EC00-45DC-8138-63E044C8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D98-8176-4D61-9D15-EE4D4FE3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C2F-0C26-402F-A653-84F75D44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C2A-E86C-4863-9384-536A2D8A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58EC-F1F1-4514-9E3B-29230E66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F8D-C4AF-41A6-A982-032EF21A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8756-3B8C-4A4B-B773-4B342FF3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18E-AFAA-408B-9535-89E2FE2A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6893F-1FE1-4A50-A534-6AAC57958F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64E7C-03DD-4F76-B426-C4AB22A2F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pp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Maximo Rodriguez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9.50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3.99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ed de original pri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9.5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or the   differe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3.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375120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935520" y="3749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4920" y="326088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2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4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Box 4"/>
          <p:cNvSpPr/>
          <p:nvPr/>
        </p:nvSpPr>
        <p:spPr>
          <a:xfrm>
            <a:off x="457200" y="385272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ed  de original pri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29.5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differ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14.7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62480" y="3311640"/>
            <a:ext cx="273204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1631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ived  de original pri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29.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differe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.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253044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7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ived  de original pr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9.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dif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9.7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97400" y="3224160"/>
            <a:ext cx="28828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1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shirt for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33.9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T-shirt for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14.7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polo for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9.7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 sweeter for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19.7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The total of everything i buy 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78.4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bbeb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shirt for </a:t>
            </a:r>
            <a:r>
              <a:rPr b="0" lang="en-US" sz="2400" spc="-1" strike="noStrike">
                <a:solidFill>
                  <a:srgbClr val="23bbeb"/>
                </a:solidFill>
                <a:latin typeface="Calibri"/>
              </a:rPr>
              <a:t>49.50</a:t>
            </a: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bbeb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T-shirt for </a:t>
            </a:r>
            <a:r>
              <a:rPr b="0" lang="en-US" sz="2400" spc="-1" strike="noStrike">
                <a:solidFill>
                  <a:srgbClr val="23bbeb"/>
                </a:solidFill>
                <a:latin typeface="Calibri"/>
              </a:rPr>
              <a:t>29.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bbeb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polo for </a:t>
            </a:r>
            <a:r>
              <a:rPr b="0" lang="en-US" sz="2400" spc="-1" strike="noStrike">
                <a:solidFill>
                  <a:srgbClr val="23bbeb"/>
                </a:solidFill>
                <a:latin typeface="Calibri"/>
              </a:rPr>
              <a:t>29.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bbeb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bought a  sweeter for </a:t>
            </a:r>
            <a:r>
              <a:rPr b="0" lang="en-US" sz="2000" spc="-1" strike="noStrike">
                <a:solidFill>
                  <a:srgbClr val="23bbeb"/>
                </a:solidFill>
                <a:latin typeface="Calibri"/>
              </a:rPr>
              <a:t>39.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Calibri"/>
              </a:rPr>
              <a:t>The total of everything i buy is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1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ave 69.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ave 46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6:25:00Z</dcterms:modified>
  <cp:revision>8</cp:revision>
  <dc:subject/>
  <dc:title>Write a title here.</dc:title>
</cp:coreProperties>
</file>