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919-7069-49CE-9576-72C5A1B3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BA1-7408-4A2A-9788-1FE39359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B65-C9C7-469E-96DC-610C9DE4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EBC-FB57-4DBE-AE4E-41BE1A9B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1DF-B394-4C55-82B1-1E73DE68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DAB-6D8C-4A37-8B52-D4DFA00A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87C-7F2F-4807-8CBD-8233C92F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105-3A04-4671-AC30-AAB6A624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1DF-9334-4D85-A2E3-0141F796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EC7-D6E8-490F-926F-339045DB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EDA-13F6-446E-BBC2-098FE9EF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95D-90A6-4AC6-BC6B-2ABBF05E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0007F-EF66-4960-8CBF-5A403D2122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3FAAF-B4A1-44E2-A153-81EFE8500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5&amp;vid=1&amp;pid=783496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720" y="13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o’s pric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nders Vol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4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9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look for the original price , than I look for the new price . After I got the prices I look for the difference and the perc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328608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169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4.99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235080" y="388764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looked for the original price witch is $69.50 and the new price $34.99 .After I got the prices I look for the difference witch is         ( original price-new price) and I look fo  the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76800" y="346392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9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57200" y="3887640"/>
            <a:ext cx="26128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riginal price is $39.50 and the new price is $31.99 . The difference is $7.51 and the percentage 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37320" y="328608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.9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riginal price is $39.50 and the new price is $24.99 . The difference is $14.51and the percentage 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35680" y="342900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9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4"/>
          <p:cNvSpPr/>
          <p:nvPr/>
        </p:nvSpPr>
        <p:spPr>
          <a:xfrm>
            <a:off x="457200" y="3981600"/>
            <a:ext cx="2612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riginal price is $49.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62600" y="358128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your purchases (I bought 5 clothes  for $151.95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 the shirt was $123.99 and the pants was for $1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id not save no money because my clothes were pretty expensive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2:56:03Z</dcterms:modified>
  <cp:revision>5</cp:revision>
  <dc:subject/>
  <dc:title>Write a title here.</dc:title>
</cp:coreProperties>
</file>