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2A6-5214-4A92-8548-D0A4EC4D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0DC-69A6-4F92-AC05-D06A324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37E-B66C-424A-9E7C-D63F440D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53D-C3DB-408E-860F-7C50AD4A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78E-8FA0-4DC8-AE22-677A6184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7B6-3137-45F7-9EEE-F0CDD5C8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217-DE80-47BF-8F9F-3407863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4B8-CAE3-4035-90A0-FC45BB4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D41-1651-4F41-BD1B-EE4652C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A59-5F05-4BBE-9911-DF590A4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0F7-4B87-4C69-9795-1E592148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D88-0D13-4895-9AFE-67B7336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A1D63-575E-48F2-964E-2A994C537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46DFE-0FD5-4D29-ACAA-7BEB4F13C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5&amp;vid=1&amp;pid=78349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o’s pri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nders Vol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4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look for the original price , than I look for the new price . After I got the prices I look for the difference and the perc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2860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169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.99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235080" y="388764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looked for the original price witch is $69.50 and the new price $34.99 .After I got the prices I look for the difference witch is         ( original price-new price) and I look fo  the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76800" y="34639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88764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39.50 and the new price is $31.99 . The difference is $7.51 and the percentage 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37320" y="32860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39.50 and the new price is $24.99 . The difference is $14.51and the percentage 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35680" y="342900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9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49.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2600" y="35812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5 clothes  for $151.95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 the shirt was $123.99 and the pants was for $1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id not save no money because my clothes were pretty expensive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6:03Z</dcterms:modified>
  <cp:revision>5</cp:revision>
  <dc:subject/>
  <dc:title>Write a title here.</dc:title>
</cp:coreProperties>
</file>