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5C7-0AF4-4EF7-A73C-33027A93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261-A9BD-47C0-8BFD-89E32943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D9F-D30A-4B73-A2EF-420F7C01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CC1-DB1F-4980-97BC-7A930A87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D79-1517-4557-A592-319E2FBC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1E7-9AE2-46EC-B132-501800EC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84B-D263-46BC-9915-34DDBC23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B23-D458-43FD-A2EC-3F9E812A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541-B58C-4EC4-B0A7-AC464940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AD3-67AD-4838-88AA-2E8D0B0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7FB-C80C-44DD-BEDE-A8C9800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4F4-B7DA-4354-A65B-79DF584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14EAA-65AD-4156-AFE1-A6B58D66C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E1F6C-7C13-48F0-8640-8123C9083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5&amp;vid=1&amp;pid=78349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o’s pri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nders Vol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4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look for the original price , than I look for the new price . After I got the prices I look for the difference and the perc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2860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169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.99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235080" y="388764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looked for the original price witch is $69.50 and the new price $34.99 .After I got the prices I look for the difference witch is         ( original price-new price) and I look fo  the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76800" y="346392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88764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39.50 and the new price is $31.99 . The difference is $7.51 and the percentage 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37320" y="32860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39.50 and the new price is $24.99 . The difference is $14.51and the percentage 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35680" y="342900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9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49.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2600" y="35812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5 clothes  for $151.95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 the shirt was $123.99 and the pants was for $1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id not save no money because my clothes were pretty expensive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6:03Z</dcterms:modified>
  <cp:revision>5</cp:revision>
  <dc:subject/>
  <dc:title>Write a title here.</dc:title>
</cp:coreProperties>
</file>