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6972-1E2E-4D2D-ACDB-BAE233F8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F009-DA5D-4160-AF97-262C769F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8B4A-AA23-4475-8873-93EE3C65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7C58-B59E-4282-B0FE-DEE64B96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8F8E-5D38-4823-BA18-08A2AF31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E2B-F48E-4E44-8822-51CA648A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727F-F8BE-4EFC-8938-240A2D9D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6AB-E20B-4A7D-BD9B-47D0A6B9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F8F-5456-45FB-AC8F-1CA22B15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4E38-E405-47AB-94AB-47B1A646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59E-C88D-4B19-9BA9-7602D8B9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758-1DA3-452B-B811-814F65BF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6B0B7-BC8F-49CE-B0EE-E7723F5AED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0C4F5-F2B2-4062-BEB3-1823ACC5C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80&amp;vid=0&amp;pid=751158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77&amp;vid=0&amp;pid=78258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50&amp;vid=1&amp;pid=78310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42&amp;vid=1&amp;pid=771989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pping some new cloth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ephanie Char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1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ay I found the percent of change is I divided the difference by the original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05200" y="346716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ay I found the percent of change is I divided the difference by the original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7400" y="361800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4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ay I found the percent of change is I divided the difference by original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43044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4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ay I found the percent of change is I divided the difference by the original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05200" y="361800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bought a Pocket T for $7.99. Then I bought a Cropped trench coat for $59.99. Then I bought a Plaid cap-sleeve dress for $64.99.Then I bought a Tri-blend leggings for $14.9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total for the shopping is $147.9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the original prices (The original price of the Clo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o state the total of original pr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elling how much you sa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stating the percent of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5T13:00:17Z</dcterms:modified>
  <cp:revision>8</cp:revision>
  <dc:subject/>
  <dc:title>Write a title here.</dc:title>
</cp:coreProperties>
</file>