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2D1-3F3A-4B9F-8028-BB6BF314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705-47E3-4222-8D3A-4BF81EE0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478-75F4-48A6-8356-3A8969C5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4C8-4C2F-4387-A014-7B9021E1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FFDD-8C9C-4318-814D-9F97FD15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A43-66CB-4A35-9E3F-4A749D52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A1B-4091-467C-B621-EE72B38B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2733-4542-4CA4-9B04-0FA4F2ED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B9E-DA41-4031-AB81-B7B0AF1E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481-AA6B-4A38-9379-EAC734B8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DB1D-1761-4509-A65B-F6F74FE4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968-684F-46D1-A023-209FDB46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686DC-15A7-46A2-A61E-EF811DB370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6E6CB-BE55-4645-9ADB-8D60E0E28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80&amp;vid=0&amp;pid=751158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77&amp;vid=0&amp;pid=78258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50&amp;vid=1&amp;pid=78310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42&amp;vid=1&amp;pid=771989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pping some new cloth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ephanie Char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1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y I found the percent of change is I divided the difference by the original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05200" y="346716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y I found the percent of change is I divided the difference by the original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61800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4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y I found the percent of change is I divided the difference by original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43044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4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y I found the percent of change is I divided the difference by the original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05200" y="361800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bought a Pocket T for $7.99. Then I bought a Cropped trench coat for $59.99. Then I bought a Plaid cap-sleeve dress for $64.99.Then I bought a Tri-blend leggings for $14.9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total for the shopping is $147.9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the original prices (The original price of the Clo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5T13:00:17Z</dcterms:modified>
  <cp:revision>8</cp:revision>
  <dc:subject/>
  <dc:title>Write a title here.</dc:title>
</cp:coreProperties>
</file>