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5C0-FCE0-4DCE-8CC4-387AEFFF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B08-964D-4541-A0E7-413A7E18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7AC-315E-4810-974D-9447F655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4AC-768B-490D-BBF0-CF070F69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176-E2A9-4867-A18F-1FCF35E7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070-458F-4070-A3A3-5F3BE108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572-0382-4AD2-B312-F36F3209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360-4CE8-4D0C-98F7-11445D51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8F0-53D2-4189-9B03-225975C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31B-3C6E-4A88-9D09-4E709FF6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B3D-ACEA-42C3-B55D-DF3D441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9A9-D97B-4740-A718-49710C27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B7E92-E9E7-403A-ADE8-A7D9A27873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A6BAA-02B4-40D8-9980-F5B4D066E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80&amp;vid=0&amp;pid=75115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77&amp;vid=0&amp;pid=78258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50&amp;vid=1&amp;pid=78310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642&amp;vid=1&amp;pid=77198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 some new cloth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ephanie Char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46716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6180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y I found the percent of change is 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361800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bought a Pocket T for $7.99. Then I bought a Cropped trench coat for $59.99. Then I bought a Plaid cap-sleeve dress for $64.99.Then I bought a Tri-blend leggings for $14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total for the shopping is $147.9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 the Cl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5T13:00:17Z</dcterms:modified>
  <cp:revision>8</cp:revision>
  <dc:subject/>
  <dc:title>Write a title here.</dc:title>
</cp:coreProperties>
</file>