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5600-8421-4A2D-BAD1-EDE6D59C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4D8D-9A9B-4B31-ABAD-BCE88187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711C-CE16-4EFF-B717-0D499854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53D6-E8FD-46AA-9803-AA071575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47CB-F84F-45C5-85BA-F506D08A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6084-69F5-4FD6-9F9E-B0A957B0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E91C-A690-47CB-8FDE-474DDFB3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ED68-501C-44D5-83A3-CEBC311D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F400-AC08-48E6-8497-887163D0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A1D5-6971-448C-AB0C-2D2C602A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CF85-B367-41B9-9BC8-45FA2B18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11F1-4BAD-4D08-B810-50216CCF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E2206-01FE-4D94-B428-C04ACFDAA3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448894-887C-4D11-B98E-9D03208FE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e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4"/>
          <p:cNvSpPr/>
          <p:nvPr/>
        </p:nvSpPr>
        <p:spPr>
          <a:xfrm>
            <a:off x="457200" y="3981600"/>
            <a:ext cx="503856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I found the original and the new price.  Second, I subtract the new price which is 59.99 from the original price which is 69.50.and it equals 9.51.After I found the number to found the percent did 9.51divided by 69.50its equals0.136 which is equal at 14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952960" y="3571920"/>
            <a:ext cx="24768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a sentence here about how you found the percent of chan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a sentence here about how you found the percent of chan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a sentence here about how you found the percent of chan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did you sp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complete sentences to describe your purchases (I bought  ____________  for $_______.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o state your to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iginal Pr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complete sentences to describe the original prices (The original price of____________  was $_______.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o state the total of original pr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saving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elling how much you sa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stating the percent of 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3T14:23:58Z</dcterms:modified>
  <cp:revision>4</cp:revision>
  <dc:subject/>
  <dc:title>Write a title here.</dc:title>
</cp:coreProperties>
</file>