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266-E3B8-45EF-BFAC-599175FB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741-7E24-41A8-8B74-D496A1C6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A54-74B7-4038-A371-C364302A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A1E-7BAB-4259-849C-83C8A6B5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A8D-8A53-4A1F-B752-C4AFE5D2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997-C571-44D5-9E56-0ABC6E18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CE6-620D-429F-9BAF-4CC686C7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8BC-87E7-4EAD-86DB-8DB267EF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CF0-76C8-45F1-998E-BB51B1DE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D83-0971-425D-8BE6-6428A63A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5B2-7322-4DFF-9585-96EB27B8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DFC-9AC5-4317-A553-3898FE2D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AACCA-CDE8-4535-A11F-CA8EC7EA0B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3D93F-A01F-4A8D-AC45-FE8D95BC5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4"/>
          <p:cNvSpPr/>
          <p:nvPr/>
        </p:nvSpPr>
        <p:spPr>
          <a:xfrm>
            <a:off x="457200" y="3981600"/>
            <a:ext cx="503856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found the original and the new price.  Second, I subtract the new price which is 59.99 from the original price which is 69.50.and it equals 9.51.After I found the number to found the percent did 9.51divided by 69.50its equals0.136 which is equal at 14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52960" y="357192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3T14:23:58Z</dcterms:modified>
  <cp:revision>4</cp:revision>
  <dc:subject/>
  <dc:title>Write a title here.</dc:title>
</cp:coreProperties>
</file>