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203-9B09-4362-B80A-B3C213EB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911-43B4-4284-BA40-4D1D4A9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367-C061-4341-8D43-77CFC563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DA2-3B0A-44A3-930C-CD86E16E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596-EB77-459F-9366-54DA3D30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F69-AB70-47EE-A531-6094F7A3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180-3B9D-476D-B90B-BCE275B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CE5-32D0-4277-813D-8F25A3F9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216-C305-46C8-A9FF-760A19BF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561-6F5A-42A3-9716-BFEFAE6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E43-048A-4712-BE1D-71B841E3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2D3-5CB0-42EE-A4F9-93FD45D4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96325-754E-4100-8568-95E6883D92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36FCF-6BEF-477B-AFDB-0448292E0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4"/>
          <p:cNvSpPr/>
          <p:nvPr/>
        </p:nvSpPr>
        <p:spPr>
          <a:xfrm>
            <a:off x="457200" y="3981600"/>
            <a:ext cx="503856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found the original and the new price.  Second, I subtract the new price which is 59.99 from the original price which is 69.50.and it equals 9.51.After I found the number to found the percent did 9.51divided by 69.50its equals0.136 which is equal at 14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52960" y="3571920"/>
            <a:ext cx="247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a sentence here about how you found the percent of cha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397400" y="4349880"/>
            <a:ext cx="22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and Paste a picture of the item you chose.  Delete this bo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__________  for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your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___________  was $_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state the total of original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3T14:23:58Z</dcterms:modified>
  <cp:revision>4</cp:revision>
  <dc:subject/>
  <dc:title>Write a title here.</dc:title>
</cp:coreProperties>
</file>