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51E-0C57-4DC0-B35A-356506A4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873-CF2E-4644-B08C-D7E15D2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890-82ED-455C-B6C4-5FD6145A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FB4-0ADB-418F-A1C4-C114F8FC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400-B596-4748-8933-4AAE712E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65C-0F3C-42D4-9BD9-E0E6569A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EED-D16D-45CA-B3E9-F73D605A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06E-EE23-4C77-83AD-EE57798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BB3-8E10-4337-BBF2-1456E807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A0D-D6BC-4694-B9CB-43AB72B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AE3-E451-4314-BB5C-9968BC79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4AF-B45F-4EFB-8EA8-3E5C434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912DD-AB98-4999-81D4-3F764C426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B2598-EBB3-4256-8065-3ABB1B17E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28556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5602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35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Xavier Mejia B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long sle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AE Mock Neck Long Sleeve T"/>
          <p:cNvPicPr/>
          <p:nvPr/>
        </p:nvPicPr>
        <p:blipFill>
          <a:blip r:embed="rId1"/>
          <a:stretch/>
        </p:blipFill>
        <p:spPr>
          <a:xfrm>
            <a:off x="4881600" y="3581280"/>
            <a:ext cx="1886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vided the difference 19.50 and the original price 34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Skate Popover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6720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and the original price and I found the perc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Electric One Pocket Twill Shir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70320" y="3672000"/>
            <a:ext cx="1733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317520" y="378468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with the original price in then I got my ans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NYC Skyline Graphic 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8880" y="356868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4 items________  for $_74.24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purchase cost 74 dollars with 24 c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4 items___________  was $_133______.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7:35Z</dcterms:modified>
  <cp:revision>6</cp:revision>
  <dc:subject/>
  <dc:title>Write a title here.</dc:title>
</cp:coreProperties>
</file>