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4136-3DB0-40A4-A02E-305DA02F0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947C-3A02-4CFE-8B71-1593DDD54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D59C-96D4-48D5-9190-BB0E3A5EA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4D82-C719-4F23-B6AF-B5973CD14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5DD1-D999-43F3-9A99-292D878C5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3172-F769-4538-AA2B-719F75143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C954-F955-4970-AF4E-4D2AC3A53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ACA6-D088-4D77-9C69-215513688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0862-5906-4C9B-B2DE-A9A1B3447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4C9B-FD12-4339-B776-4525AE79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541A-8CA8-4D87-B189-B9059E811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79B7-144C-48E6-A069-1740357B4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1C9641-2CC3-481B-AC36-3152A726099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516159-FBDF-4F88-A36A-1F3A4C6F8F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aeropostale.com/product/index.jsp?productId=4285568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aeropostale.com/product/index.jsp?productId=4356025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eropostale.com/product/index.jsp?productId=10894354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opp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Xavier Mejia Bre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 #1long slee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1600200"/>
          <a:ext cx="8229600" cy="15080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TextBox 4"/>
          <p:cNvSpPr/>
          <p:nvPr/>
        </p:nvSpPr>
        <p:spPr>
          <a:xfrm>
            <a:off x="457200" y="3981600"/>
            <a:ext cx="261288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 divided the difference by the original pri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AE Mock Neck Long Sleeve T"/>
          <p:cNvPicPr/>
          <p:nvPr/>
        </p:nvPicPr>
        <p:blipFill>
          <a:blip r:embed="rId1"/>
          <a:stretch/>
        </p:blipFill>
        <p:spPr>
          <a:xfrm>
            <a:off x="4881600" y="3581280"/>
            <a:ext cx="188604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 #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1600200"/>
          <a:ext cx="8229600" cy="15080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TextBox 4"/>
          <p:cNvSpPr/>
          <p:nvPr/>
        </p:nvSpPr>
        <p:spPr>
          <a:xfrm>
            <a:off x="457200" y="3981600"/>
            <a:ext cx="261288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rst I divided the difference 19.50 and the original price 34.5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" descr="Skate Popover Hoodie - Aéropostale®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96000" y="3672000"/>
            <a:ext cx="173340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 #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1600200"/>
          <a:ext cx="8229600" cy="15080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TextBox 4"/>
          <p:cNvSpPr/>
          <p:nvPr/>
        </p:nvSpPr>
        <p:spPr>
          <a:xfrm>
            <a:off x="457200" y="3981600"/>
            <a:ext cx="261288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 divided the difference and the original price and I found the percen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" descr="Electric One Pocket Twill Shirt - Aéropostale®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70320" y="3672000"/>
            <a:ext cx="173376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 #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57200" y="1600200"/>
          <a:ext cx="8229600" cy="15080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TextBox 4"/>
          <p:cNvSpPr/>
          <p:nvPr/>
        </p:nvSpPr>
        <p:spPr>
          <a:xfrm>
            <a:off x="317520" y="3784680"/>
            <a:ext cx="261288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 divided the difference with the original price in then I got my answ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" descr="NYC Skyline Graphic T - Aéropostale®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38880" y="3568680"/>
            <a:ext cx="173340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much did you spend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complete sentences to describe your purchases (I bought  __4 items________  for $_74.24______...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y total purchase cost 74 dollars with 24 c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riginal Pr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complete sentences to describe the original prices (The original price of_4 items___________  was $_133______..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 savings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a sentence telling how much you sav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a sentence stating the percent of chang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16:16:13Z</dcterms:created>
  <dc:creator>Teacher</dc:creator>
  <dc:description/>
  <dc:language>en-US</dc:language>
  <cp:lastModifiedBy>tech</cp:lastModifiedBy>
  <dcterms:modified xsi:type="dcterms:W3CDTF">2010-11-04T12:57:35Z</dcterms:modified>
  <cp:revision>6</cp:revision>
  <dc:subject/>
  <dc:title>Write a title here.</dc:title>
</cp:coreProperties>
</file>