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D83-ADC0-4604-A3EA-1B8D3C5D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17B-DB2F-4A61-A058-0A0843E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687-CF54-4006-BCEC-CA1453B8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C3A-86A9-49D5-8572-246BCCB1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DAB-EB29-4986-9451-BF74071B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4B4-E33B-4EF9-A1AB-3361FD17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C06-C8AB-4E83-B3DC-3EC1EA62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812-3DF4-43FF-BA1E-92D2DBB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324-93FE-4D59-ADCD-1F60492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44C-FF1C-496C-A17F-9C9CFC0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DDA-B4E0-40ED-AA1A-31D5F8E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7B3-C62E-4216-A75B-244F306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61DD7-95A2-41F3-9FA9-2F9CF1A13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1A688-8940-4230-A79B-CB03D32D5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28556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435602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eropostale.com/product/index.jsp?productId=1089435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Xavier Mejia B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1long sle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by the original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AE Mock Neck Long Sleeve T"/>
          <p:cNvPicPr/>
          <p:nvPr/>
        </p:nvPicPr>
        <p:blipFill>
          <a:blip r:embed="rId1"/>
          <a:stretch/>
        </p:blipFill>
        <p:spPr>
          <a:xfrm>
            <a:off x="4881600" y="3581280"/>
            <a:ext cx="1886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vided the difference 19.50 and the original price 34.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Skate Popover Hoodie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367200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and the original price and I found the perc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Electric One Pocket Twill Shir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70320" y="3672000"/>
            <a:ext cx="17337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150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317520" y="3784680"/>
            <a:ext cx="2612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ivided the difference with the original price in then I got my answ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NYC Skyline Graphic T - Aéropostale®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8880" y="3568680"/>
            <a:ext cx="1733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your purchases (I bought  __4 items________  for $_74.24______.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otal purchase cost 74 dollars with 24 c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omplete sentences to describe the original prices (The original price of_4 items___________  was $_133______.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elling how much you sa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stating the percent of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4T12:57:35Z</dcterms:modified>
  <cp:revision>6</cp:revision>
  <dc:subject/>
  <dc:title>Write a title here.</dc:title>
</cp:coreProperties>
</file>