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19E-FA86-44B0-B2E6-EB47DDE7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35F-284F-423B-B479-50B845CF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4E0-B249-419F-97EA-92058AAB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F17-8185-4818-9DC1-6C427BF7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69854-82DA-4969-B43D-4CD28D80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C3109-46A3-4308-A3D0-7302C9C5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2A00D-CD11-4515-A914-5E8FD740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742AC-D799-4904-8244-4566972F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FC63D-9050-426B-AE50-1C33D4A4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307AB-D863-4114-9209-3439699E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F574F-F7C9-41AE-A70C-C4BA836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4AA-2F21-45D6-A8B6-081F4881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999CB-6106-4C21-9D0E-3206C908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74EDF-318C-4F45-A1B8-405737A0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35C8D-CA5B-498E-B29E-867995D7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4C26E-A729-43EF-902F-11A1CDA6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4148D-6EAD-4BD2-ABC8-51A29A8A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C1E-31F7-499A-A11E-63F8F775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1C7-0902-42B8-94C0-90BD169D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C8B-1A09-47A5-A479-36275AE6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6A0-8B1F-4A6F-B77E-BBAD46C0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89E-C7C4-4C19-A16B-AB6FDD09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007-71DD-464E-AEB6-F3A985B2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9E1-5B9B-4768-90D5-AB885543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1FE4A-FA9B-4AFF-847D-03C1D8EDCA1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83507-6730-4C86-952B-233258A5AF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D9B68-BF2D-40A9-BFFA-6AB718C506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DD826-636F-4234-ADFF-375305D375E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ap.com/browse/product.do?cid=26681&amp;vid=1&amp;pid=782656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ap.com/browse/product.do?cid=26682&amp;vid=1&amp;pid=739279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ap.com/browse/product.do?cid=26687&amp;vid=1&amp;pid=776572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ap.com/browse/product.do?cid=26680&amp;vid=0&amp;pid=771972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’m Going Shopp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981240"/>
            <a:ext cx="64008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Yaritza Landaver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ETCH KNIT ACTIVITE SHOR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905120"/>
          <a:ext cx="8229240" cy="207000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Box 4"/>
          <p:cNvSpPr/>
          <p:nvPr/>
        </p:nvSpPr>
        <p:spPr>
          <a:xfrm>
            <a:off x="457200" y="4788000"/>
            <a:ext cx="2612880" cy="64260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rst I substract and then I divided 6.51 by 26.50.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981600"/>
            <a:ext cx="19242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e-dyed stripe biki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905120"/>
          <a:ext cx="8229240" cy="138564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my second item I substract and divide 32.50 by 21.5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5"/>
          <p:cNvSpPr/>
          <p:nvPr/>
        </p:nvSpPr>
        <p:spPr>
          <a:xfrm flipV="1">
            <a:off x="4572000" y="4261680"/>
            <a:ext cx="229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334332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2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ebra print denim ballet flat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05120"/>
          <a:ext cx="8229240" cy="138564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Box 4"/>
          <p:cNvSpPr/>
          <p:nvPr/>
        </p:nvSpPr>
        <p:spPr>
          <a:xfrm>
            <a:off x="457200" y="3981600"/>
            <a:ext cx="2612880" cy="64260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rst I substract and then I divide 49.50 by 0.29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5"/>
          <p:cNvSpPr/>
          <p:nvPr/>
        </p:nvSpPr>
        <p:spPr>
          <a:xfrm flipV="1">
            <a:off x="4397400" y="428472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44960" y="3365640"/>
            <a:ext cx="19242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tem #4-oversized douple -laye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905120"/>
          <a:ext cx="8229240" cy="174924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Box 4"/>
          <p:cNvSpPr/>
          <p:nvPr/>
        </p:nvSpPr>
        <p:spPr>
          <a:xfrm>
            <a:off x="514440" y="4165560"/>
            <a:ext cx="2612880" cy="119124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rst I substract the original by the new price and I got the answer and then I divide 5 by 29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60880" y="374796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much did you spen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bought a pair of shorts for $19.99.  I bought a tie-dyed stripe bikini for  $10.99.  I  bought a zebra print denim ballet flats for 34.99.  I bought over sized double  - layer T for 24.99. And I spent $90.96 out of $15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riginal Pri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I bought  shorts and the original price was 26.50.  Second I bought tie-dyed stripe bikini and the original price was 32.50. Third I bought a zebra print denim ballet flats and the original price was 49.50.  Then I bought oversized double – layer T and  the original price was 29.50.  I spent $13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y saving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saved in my day of shopping. I saved $ 47.04. Now I can go to buy some thing that I want to buy. Maybe I can buy something cute for my mo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divided 47.04 by 138. my percent of change is 0.34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8T17:56:01Z</dcterms:modified>
  <cp:revision>7</cp:revision>
  <dc:subject/>
  <dc:title>Write a title here.</dc:title>
</cp:coreProperties>
</file>