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375-1832-4190-9005-BFBC6D05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D66-79E6-4C4F-BFDD-368429B7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E92-D8C4-45FF-A645-436FD057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20D-20D1-4BDB-8B8D-9EFA18D1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E6D1C-2FEC-4FB6-87C6-4BF0C2FC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FBB1C-7687-45A7-8F92-F7B4E1B0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9BC40-953A-4662-850E-C679DF27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CCA92-C604-4F6A-8FFB-C01A7672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CB4DF-80C4-4688-BD1B-E57E5527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345CC-E343-449D-8DED-1291DA62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4052B-E2B1-4DE0-A27C-294AA92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5B7-7C0E-48E7-A7F8-8492922B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8C7CE-8226-49B8-9E28-E188CF80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3AED-6982-465B-AE80-19FC787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79B0C-0E4F-47A9-82C8-A666E36C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5A2F0-5E9E-4EE4-BEC3-3DB95E04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0B21F-98D6-45DF-9136-372FCBC2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10F-8329-49B1-B546-F3C66DAB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1A9-C294-4214-B4FB-6B10F8B8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4CD-D415-43C7-B268-71146868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8F4-8609-4085-90D7-DF91320D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D73-BB01-49C0-83BA-DB4DD587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7D7-FAE4-49D5-A0E5-8B1E61E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5F5-CF92-4E77-BCD7-E29844A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CE95D-5438-4A46-8E26-3965FD4D53E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F7A0E-B9F3-4D47-8223-6DB608EAC7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3C364-EC56-4E70-9D0A-DA3E23650D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143C9-C623-42E1-850B-19C967B6487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p.com/browse/product.do?cid=26681&amp;vid=1&amp;pid=782656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p.com/browse/product.do?cid=26682&amp;vid=1&amp;pid=739279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p.com/browse/product.do?cid=26687&amp;vid=1&amp;pid=776572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p.com/browse/product.do?cid=26680&amp;vid=0&amp;pid=771972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’m Going Shopp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981240"/>
            <a:ext cx="64008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Yaritza Landaver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ETCH KNIT ACTIVITE SHOR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905120"/>
          <a:ext cx="8229240" cy="20700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Box 4"/>
          <p:cNvSpPr/>
          <p:nvPr/>
        </p:nvSpPr>
        <p:spPr>
          <a:xfrm>
            <a:off x="457200" y="4788000"/>
            <a:ext cx="2612880" cy="64260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I substract and then I divided 6.51 by 26.50.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981600"/>
            <a:ext cx="19242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e-dyed stripe biki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905120"/>
          <a:ext cx="8229240" cy="138564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Box 4"/>
          <p:cNvSpPr/>
          <p:nvPr/>
        </p:nvSpPr>
        <p:spPr>
          <a:xfrm>
            <a:off x="457200" y="3981600"/>
            <a:ext cx="2612880" cy="91692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my second item I substract and divide 32.50 by 21.5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 flipV="1">
            <a:off x="4572000" y="4261680"/>
            <a:ext cx="229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34332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2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ebra print denim ballet fla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8229240" cy="138564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Box 4"/>
          <p:cNvSpPr/>
          <p:nvPr/>
        </p:nvSpPr>
        <p:spPr>
          <a:xfrm>
            <a:off x="457200" y="3981600"/>
            <a:ext cx="2612880" cy="64260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I substract and then I divide 49.50 by 0.29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5"/>
          <p:cNvSpPr/>
          <p:nvPr/>
        </p:nvSpPr>
        <p:spPr>
          <a:xfrm flipV="1">
            <a:off x="4397400" y="428472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44960" y="3365640"/>
            <a:ext cx="19242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em #4-oversized douple -laye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905120"/>
          <a:ext cx="8229240" cy="174924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4"/>
          <p:cNvSpPr/>
          <p:nvPr/>
        </p:nvSpPr>
        <p:spPr>
          <a:xfrm>
            <a:off x="514440" y="4165560"/>
            <a:ext cx="2612880" cy="1191240"/>
          </a:xfrm>
          <a:prstGeom prst="rect">
            <a:avLst/>
          </a:prstGeom>
          <a:solidFill>
            <a:srgbClr val="000099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I substract the original by the new price and I got the answer and then I divide 5 by 29.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60880" y="3747960"/>
            <a:ext cx="19238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much did you spen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bought a pair of shorts for $19.99.  I bought a tie-dyed stripe bikini for  $10.99.  I  bought a zebra print denim ballet flats for 34.99.  I bought over sized double  - layer T for 24.99. And I spent $90.96 out of $15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riginal Pri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I bought  shorts and the original price was 26.50.  Second I bought tie-dyed stripe bikini and the original price was 32.50. Third I bought a zebra print denim ballet flats and the original price was 49.50.  Then I bought oversized double – layer T and  the original price was 29.50.  I spent $13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y saving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aved in my day of shopping. I saved $ 47.04. Now I can go to buy some thing that I want to buy. Maybe I can buy something cute for my mo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divided 47.04 by 138. my percent of change is 0.3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0-28T17:56:01Z</dcterms:modified>
  <cp:revision>7</cp:revision>
  <dc:subject/>
  <dc:title>Write a title here.</dc:title>
</cp:coreProperties>
</file>