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0A1-D435-4207-B012-26DBC9B7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A42-C103-4242-A22C-BD805EC2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6DF-FA26-499D-A3FE-48441D1A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5FD-CC52-47A9-A2DB-3555DCC3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757-5825-4541-B384-CA19B148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D5E-0BBB-409D-BB51-41B58CDD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977-C979-497A-8D04-4769E47D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CF3-76B0-4C78-A4F5-EFD61B23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723-E2AF-46D1-93C0-D976FE5B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108F-4C00-474F-9A33-D9980199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311-90B2-4CEB-AFD1-4A9C0CCA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7EB-BAE5-43D9-BFD0-18B5DCFC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BF387-569E-4425-8827-98EBB401F6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0019F-9A1E-4672-B300-A389F5008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9&amp;vid=1&amp;pid=774142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9&amp;vid=1&amp;pid=77415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9&amp;vid=1&amp;pid=774157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9&amp;vid=1&amp;pid=765720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Write your name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 first subtracted 49.50 from 39.99 and got 9.51 and then I divided 9.51 by 49.50 and got 0.19 as my percent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64120" y="3738600"/>
            <a:ext cx="192420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4"/>
          <p:cNvSpPr/>
          <p:nvPr/>
        </p:nvSpPr>
        <p:spPr>
          <a:xfrm>
            <a:off x="457200" y="3981600"/>
            <a:ext cx="26128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 first subtracted 49.50 from 41.99 and got 7.51, and then I divided 7.51 by 49.50 and got 0.15 as my percent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29080" y="3330720"/>
            <a:ext cx="1924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457200" y="3981600"/>
            <a:ext cx="26128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 first subtracted 49.50 from 41.99 and got 7.51 and then I divided 7.51 by  49.50 and got 0.15 as my percent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99120" y="3352680"/>
            <a:ext cx="19238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r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Box 4"/>
          <p:cNvSpPr/>
          <p:nvPr/>
        </p:nvSpPr>
        <p:spPr>
          <a:xfrm>
            <a:off x="457200" y="3430440"/>
            <a:ext cx="26128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 first subtracted 39.50 from 27.99 and got 11.51 and then I divided 11.51 by 39.50 and got 0.29 as my percent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43560" y="343044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6360" y="1920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 a shirt  for $39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another shirt for 41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irt for 41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lso a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irt for 27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spent a total of $151.96 for all shi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price of Shirt  was $ 49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Shirt original price was 49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irt  original price was 49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irt original price was 39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aved a total of 36.04 on all the shi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tal percentage is 0.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8T20:43:12Z</dcterms:modified>
  <cp:revision>5</cp:revision>
  <dc:subject/>
  <dc:title>Write a title here.</dc:title>
</cp:coreProperties>
</file>