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825-53ED-4579-BCBE-D5EA6193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0E0-733B-460E-86FD-B637728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6EC-FEDD-4802-A832-85B28457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6D9-4D73-47C9-B596-79EDA40E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41F-B0FE-4811-A6C7-499EF16E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B21-9962-4F38-B737-E3D8D7A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061-1AD3-4268-81A6-928A81A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A0E-8E95-4D59-8173-1CFC011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176-D68A-4EB0-9265-05C2B86E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E36-1F6B-4DB9-9555-E92F4EB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4AA-B6FB-4B51-BF91-021B727E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E33-25CC-4C73-9BEF-57071DE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D81F-74D5-4DFD-9EEF-7DA1597901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72D95-2F77-418E-B290-4B608644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4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5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7415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.com/browse/product.do?cid=26279&amp;vid=1&amp;pid=7657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Write your na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39.99 and got 9.51 and then I divided 9.51 by 49.50 and got 0.19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64120" y="3738600"/>
            <a:ext cx="1924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41.99 and got 7.51, and then I divided 7.51 by 49.50 and got 0.15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29080" y="3330720"/>
            <a:ext cx="1924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57200" y="398160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49.50 from 41.99 and got 7.51 and then I divided 7.51 by  49.50 and got 0.15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99120" y="3352680"/>
            <a:ext cx="1923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301320"/>
            <a:ext cx="8210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15379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457200" y="3430440"/>
            <a:ext cx="2612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first subtracted 39.50 from 27.99 and got 11.51 and then I divided 11.51 by 39.50 and got 0.29 as my percen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97400" y="4349880"/>
            <a:ext cx="229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43560" y="343044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id you sp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6360" y="192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 a shirt  for $3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another shirt for 4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ough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for 4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lso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for 27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spent a total of $151.96 for all sh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price of Shirt  was $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Shirt original price was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 original price was 4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irt original price was 39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aved a total of 36.04 on all the sh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percentage is 0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16:13Z</dcterms:created>
  <dc:creator>Teacher</dc:creator>
  <dc:description/>
  <dc:language>en-US</dc:language>
  <cp:lastModifiedBy>tech</cp:lastModifiedBy>
  <dcterms:modified xsi:type="dcterms:W3CDTF">2010-11-08T20:43:12Z</dcterms:modified>
  <cp:revision>5</cp:revision>
  <dc:subject/>
  <dc:title>Write a title here.</dc:title>
</cp:coreProperties>
</file>